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424-D09B-420D-8A95-DA78741C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0B9-35D5-482F-ADB0-C23E53E6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695-3264-4206-8169-CBC2D256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189-AC9F-4CBF-A560-B30250A0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BDBE-F195-403A-8020-528569B0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04F7-B66F-4DE2-854B-EA384FC9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8A69-EB51-4CAB-937D-2586BABF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8EC8-92EE-48C5-B03A-72A97467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723C-034C-4771-81F5-CED0556B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540F-83A7-4042-919F-00ED9E7B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570C-37D6-4497-B33F-697462DD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37B-B84C-4E7C-BC71-47124549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69A7-95A4-4917-B519-D74E1E1F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EF8F-948D-44D1-BE2E-934DC557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D81F-7A96-4EDF-9BCC-550A325D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08B1-FA44-4509-8F57-03FBB244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CA94-853D-49F1-95D5-8C2C4D02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6D3-91C6-4F0E-A1B7-8B982E7E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C31B-A025-48D7-AAB9-B5EF7596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341-3A37-4631-BE56-6D4EE19C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07B-97C3-464A-BA97-9096EE40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507-26C1-41DB-B54D-98E18235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C9C-1239-4AC2-8648-AC3668D2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C34-CB05-44E7-B27D-02AEE6F6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202F-62D2-4E07-A01C-3B7A64BFC06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43A2-C772-4537-AF90-777AAF5E98D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6633"/>
                </a:solidFill>
                <a:latin typeface="Garamond"/>
              </a:rPr>
              <a:t>Cocina Latina</a:t>
            </a:r>
            <a:endParaRPr b="0" lang="en-US" sz="6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 Eate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-Speak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ap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ame for small plates, almost like an appeti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pas can be hot or c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pas are meant to be shared with a group (one tapa can feed 2-3 peop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pas come from Sp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tapas"/>
          <p:cNvPicPr/>
          <p:nvPr/>
        </p:nvPicPr>
        <p:blipFill>
          <a:blip r:embed="rId1"/>
          <a:stretch/>
        </p:blipFill>
        <p:spPr>
          <a:xfrm>
            <a:off x="457200" y="1600200"/>
            <a:ext cx="403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horiz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cy pork sau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rizo is eaten in Latin America and Sp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rizo can be put in breakfast, lunch or dinner dis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horizo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opaipillas, Churros, etc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many names for this fried bread that is sprinkled with cinnamon and su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similar to an elephant 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me and shape depends on what country it cam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Sopaipillas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hocolate-con-churros-una-de-las-consumiciones-tipicas-de-madrid"/>
          <p:cNvPicPr/>
          <p:nvPr/>
        </p:nvPicPr>
        <p:blipFill>
          <a:blip r:embed="rId2"/>
          <a:stretch/>
        </p:blipFill>
        <p:spPr>
          <a:xfrm>
            <a:off x="457200" y="3657600"/>
            <a:ext cx="40384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Now for some more </a:t>
            </a:r>
            <a:br>
              <a:rPr sz="5000"/>
            </a:b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“adventurous” items…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m if you dare.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at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é is made like hot tea, with yerba maté leaves and ho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é is drunk in the south of South America (Argentina, Bolivia, Paraguay, and Urugua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yerbacup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opali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s from the prickly pear cactus pl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ckly stems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alit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are cut off, and the leaves are boi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palitos can be put into salad (shown), eggs, or s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nopalitos%20salad"/>
          <p:cNvPicPr/>
          <p:nvPr/>
        </p:nvPicPr>
        <p:blipFill>
          <a:blip r:embed="rId1"/>
          <a:stretch/>
        </p:blipFill>
        <p:spPr>
          <a:xfrm>
            <a:off x="4648320" y="2743200"/>
            <a:ext cx="4038480" cy="335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nopal4"/>
          <p:cNvPicPr/>
          <p:nvPr/>
        </p:nvPicPr>
        <p:blipFill>
          <a:blip r:embed="rId2"/>
          <a:stretch/>
        </p:blipFill>
        <p:spPr>
          <a:xfrm>
            <a:off x="4648320" y="228600"/>
            <a:ext cx="4076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hapu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sshopper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are cooked on a clay surface with garlic and lemon ju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are sometimes sprinkled with ch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ulines are eaten in Me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chapulines4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cina Latina (Latin Cuisine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in cuisine is influenced by the native tribes and the explorers who traveled to these countries hundreds of years ago – Asia, Africa,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in cuisine uses materials that are plentiful in these areas, like fruits, vegetables, and seafood from the oce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dishes in latin cuisine are spi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dishes in latin cuisine are very similar from another country, but are given another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Gazpach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zpacho is a cold s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zpacho is tomato-based, but has other vegetables in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zpacho is eaten in Spain and Latin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Gazpacho%20graphic%20big"/>
          <p:cNvPicPr/>
          <p:nvPr/>
        </p:nvPicPr>
        <p:blipFill>
          <a:blip r:embed="rId1"/>
          <a:stretch/>
        </p:blipFill>
        <p:spPr>
          <a:xfrm>
            <a:off x="4572000" y="762120"/>
            <a:ext cx="4213080" cy="29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gazpacho2"/>
          <p:cNvPicPr/>
          <p:nvPr/>
        </p:nvPicPr>
        <p:blipFill>
          <a:blip r:embed="rId2"/>
          <a:stretch/>
        </p:blipFill>
        <p:spPr>
          <a:xfrm>
            <a:off x="4572000" y="3505320"/>
            <a:ext cx="41911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mpanad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anadas are a stuffed pa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anadas can be stuffed with anything from meat, cheese, or fr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anadas are eaten in Spain and Latin Ame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pain they are circular, and in Latin and South America they are half-circ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3593481803_900681a6bc_b"/>
          <p:cNvPicPr/>
          <p:nvPr/>
        </p:nvPicPr>
        <p:blipFill>
          <a:blip r:embed="rId1"/>
          <a:stretch/>
        </p:blipFill>
        <p:spPr>
          <a:xfrm>
            <a:off x="304920" y="1523880"/>
            <a:ext cx="41907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am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males are eaten in Latin America, but are most popular in Mex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male corn dough, call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s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can be filled with meat, chees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males are wrapped in banana le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sa and filling is cooked by steaming the dough and stuffing in the le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tamales_piramide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ael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ella is a rice dish that has vegetables and seafood in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ella is made in a pan called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aell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ella comes from Spain (from a region called Andaluc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paella"/>
          <p:cNvPicPr/>
          <p:nvPr/>
        </p:nvPicPr>
        <p:blipFill>
          <a:blip r:embed="rId1"/>
          <a:stretch/>
        </p:blipFill>
        <p:spPr>
          <a:xfrm>
            <a:off x="457200" y="1606680"/>
            <a:ext cx="40384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l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é is a sauce that can be poured on many things, including me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é has many different ingredients (almost 20!), including peppers and choco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é takes a long time to make, and is usually eaten only on special occa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é comes from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mole"/>
          <p:cNvPicPr/>
          <p:nvPr/>
        </p:nvPicPr>
        <p:blipFill>
          <a:blip r:embed="rId1"/>
          <a:stretch/>
        </p:blipFill>
        <p:spPr>
          <a:xfrm>
            <a:off x="4572000" y="1523880"/>
            <a:ext cx="4133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rroz con Lech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roz con leche is a rice pudding that is made with milk and topped with cinnam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eaten in Spain and Latin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ARROZCONLECHE.jpg image by paranorah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l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an is a custard with caram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an is eaten in Latin America and in Sp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copy-of-4"/>
          <p:cNvPicPr/>
          <p:nvPr/>
        </p:nvPicPr>
        <p:blipFill>
          <a:blip r:embed="rId1"/>
          <a:stretch/>
        </p:blipFill>
        <p:spPr>
          <a:xfrm>
            <a:off x="4648320" y="1600200"/>
            <a:ext cx="406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20:24:53Z</dcterms:created>
  <dc:creator>azeeff</dc:creator>
  <dc:description/>
  <dc:language>en-US</dc:language>
  <cp:lastModifiedBy>System User</cp:lastModifiedBy>
  <dcterms:modified xsi:type="dcterms:W3CDTF">2013-05-23T14:38:46Z</dcterms:modified>
  <cp:revision>6</cp:revision>
  <dc:subject/>
  <dc:title>Slide 1</dc:title>
</cp:coreProperties>
</file>